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BB0-8AF2-426A-85A0-9BABC9E0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912-F4A5-463F-91C0-624433E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DB9-FB14-47C4-9636-391AFC52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10D-23AB-47DF-8416-14C4E20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384-2EEA-4150-8228-2857A94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559-D8FC-40FF-BD5C-14EA2FF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412-CB90-41F4-8DC6-987D578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F30-A98C-4A38-998C-A0845CB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07E-4685-4160-8984-D9FD13A0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C1B-6C0E-4B09-AEA3-6FB0C2A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399-9214-43BE-B6B8-F909C61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B8D-2DB9-454A-98B6-7C9E766F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E3B-8936-4B42-A642-36C58C87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Zeus and Ganymede"/>
          <p:cNvPicPr/>
          <p:nvPr/>
        </p:nvPicPr>
        <p:blipFill>
          <a:blip r:embed="rId1"/>
          <a:stretch/>
        </p:blipFill>
        <p:spPr>
          <a:xfrm>
            <a:off x="2819520" y="1600200"/>
            <a:ext cx="334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914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ds controlled the world of nature and the human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505320"/>
            <a:ext cx="5486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Myths and Lege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e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gods’ role in creating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and causing nat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ll of the gods’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thena Promachus"/>
          <p:cNvPicPr/>
          <p:nvPr/>
        </p:nvPicPr>
        <p:blipFill>
          <a:blip r:embed="rId1"/>
          <a:stretch/>
        </p:blipFill>
        <p:spPr>
          <a:xfrm>
            <a:off x="228600" y="762120"/>
            <a:ext cx="31258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762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eek gods were part of a family and Zeus was the suprem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86120" cy="193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297180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us – justice and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idon –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a –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s –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nysus –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– light (sun), health, herding, proph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829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57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the Greeks worshipped their g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d to them for things they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ed the gods with animal sacri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sanctuaries where they could worship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honor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05424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5:48:14Z</dcterms:created>
  <dc:creator>gehadde</dc:creator>
  <dc:description/>
  <dc:language>en-US</dc:language>
  <cp:lastModifiedBy>gehadde</cp:lastModifiedBy>
  <dcterms:modified xsi:type="dcterms:W3CDTF">2012-04-27T13:03:41Z</dcterms:modified>
  <cp:revision>18</cp:revision>
  <dc:subject/>
  <dc:title>WARM-UP: #4</dc:title>
</cp:coreProperties>
</file>